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E59B-4110-4B01-876E-8A436026C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BCA9-1107-4815-9F39-EFFA41BE3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8630-1571-4957-9527-F16762129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6354-06B5-4A57-B427-C3493FC73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47FCE-3309-4215-8DC5-0A09C0E7B7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73452-22B7-4159-A2E9-40E25D7AC5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4196F-B2D1-4FE6-ACE7-9D1AE6898F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94337-D789-4A31-97AF-C48DA73831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6D3BD-918C-4197-AD8B-011A82F8A1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45DBF-CEE4-4A73-8FB1-D3E99D4C4E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1EBBC-0396-4C9E-BFF2-0B7D998356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8E95-4114-4D47-BD7A-150A00553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FE14-A6FB-41BD-9449-D604A95AF8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6911-D242-45B2-AE17-22D904BACD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89622-457C-4BD5-A740-414F01F090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5E76C-8B1F-40AE-B928-F797A094C4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485B8-89E3-4C04-A5AE-AA5D7DA49C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F23A-820A-4068-8998-B848115CB0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B49-390F-4192-AC63-7195E1A098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2750-181B-45E7-AE96-FA652134C7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27F-B6A2-4EF6-B35B-658D0F8807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2F1E-2CD5-4A67-962C-EF7DA823C9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92734-4DFF-4083-A600-18C855D3A4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0972-2A65-4424-9BB9-C97FAB6730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867-5377-4A16-9C19-92CF24EFEA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0FC-898F-414F-B468-019EA939D6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55D5-DA56-46DE-B6CB-20DACB4AD1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0034-9CD3-46E0-ABF4-4348BBC9FF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782-1F82-47A8-B930-28D62587DD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0F7-229C-48E5-B43B-79F9DF2AC0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B1FC0-BD11-429A-9296-37471E72AA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0C373-B7BF-49B2-8829-F965E5A029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7863E-CB05-40BA-BBF5-EEC04A91A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7243-99AB-40C2-B01C-B836040241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155EC-B091-49E2-B8A1-5101FC06DF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DB9C0-AEF2-410D-872C-188F48263C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BE733-6BE2-422E-9CB6-19CADBD87F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B900D-8005-4E13-8751-D5E5BCB222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25105-C9E0-4FA9-9397-B8B6EB8119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E1989-7A5B-4E6D-883C-D4580702B0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65F24-9D6E-4A3A-B67E-6AB2778685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BB52B-20F9-42D7-958F-034F413B81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3BA9E-D9AD-461E-AA37-D47B2BCA1FE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990D9-F784-4521-AFAA-962C0D2BB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72A0-BFA1-4E6B-93A8-672864E9DA7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D5582-4ABA-457B-A9DF-6F858771417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43695-0A41-4CF4-A26B-14099B7F883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A2899-D448-47E0-8916-F42EC9573ED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47773-BF70-4572-B53B-71F3F962916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70CFC-53B6-49EE-B699-05EFF889535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766D8-2CD0-4841-A6C5-3EE093E361C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0FBD0-BA6C-4301-948A-5E79CBD9B47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1B7E9-C48F-43C7-A006-1852A5C797B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73488-E17B-4AC0-8AA8-12B7E6B7CDC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C1E51-5CD2-44FE-A7C6-BC0BFD4F0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7AE6-71D6-48B6-9F6F-00701842191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93984-F116-4367-B8C6-4BB95B8AD86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9DE6-951E-4470-A35C-2A8C23ED52C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CBF7-567F-4515-B78A-A4BB8B60878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18F4-1F54-4DEE-BF42-AE5662A71B4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B65D-FE6D-42F8-8DE0-C29573B6B35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4643-2498-4B41-8FEE-1EE71D28008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80B2-F5FC-48FB-9F09-C7D23503F73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5572-BC94-4CC9-971B-A76F0D47A10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8753-5C78-49AC-989F-65393FCD100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031A-BC43-4EBA-9205-388F7A48F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23C9-D601-4F9E-9C72-F1FCE24BA77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C772-3B28-4BAE-AB95-E5776BB0274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630E-D774-4CCD-B678-300A2D8EA4B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02AA-206F-4010-891A-BBF56E84B9E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AF5F60-0727-4142-80A9-567D4EB1C7C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97381A-C02D-4E1D-B1C1-A2457CE2C59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91208F-FA14-484A-85CD-4744D4880AC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A42318-AA67-47F2-932A-EBEA8F78FD4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AC56C8-3BDE-4885-AA93-A98AF1A2B3D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7987B5-5994-4C83-861B-328F19D3705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CBDDA9-8AF0-49E5-9A86-27ECAF5E3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6C92A-BC15-40E4-B56A-FE7407597C0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745E3B-82F9-4320-9A11-B8CDAF414AC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2EED24-0DCF-41DF-85AB-79CD5B7329B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53E6DF-20AC-42AE-A441-9C7957E5A17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890A60-4F85-4513-BDB7-E1C47234A0B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2A8903-D165-4901-A799-35F3992C1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3FF4-A841-4918-ACC7-39769DF36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A16C-198E-4349-8EAC-8D763995AF94}" type="slidenum">
              <a:rPr b="0" lang="e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EA80-8461-4F1C-AE71-038EC71D331C}" type="slidenum">
              <a:rPr b="0" lang="e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D9C0-6825-41C2-9FE4-49BE432CA01C}" type="slidenum">
              <a:rPr b="0" lang="e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A7FA-24EC-43B0-B58E-24B744B71C37}" type="slidenum">
              <a:rPr b="0" lang="e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661D-B303-4650-84BD-AB140E83C77F}" type="slidenum">
              <a:rPr b="0" lang="e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B64E-E5B7-4EFB-85CE-1CD492C41150}" type="slidenum">
              <a:rPr b="0" lang="e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4F16-3AA0-4129-82F2-3D38D8F1680B}" type="slidenum">
              <a:rPr b="0" lang="e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Shape 30" descr=""/>
          <p:cNvPicPr/>
          <p:nvPr/>
        </p:nvPicPr>
        <p:blipFill>
          <a:blip r:embed="rId1"/>
          <a:stretch/>
        </p:blipFill>
        <p:spPr>
          <a:xfrm>
            <a:off x="2943360" y="109440"/>
            <a:ext cx="3781440" cy="885960"/>
          </a:xfrm>
          <a:prstGeom prst="rect">
            <a:avLst/>
          </a:prstGeom>
          <a:ln w="0">
            <a:noFill/>
          </a:ln>
        </p:spPr>
      </p:pic>
      <p:pic>
        <p:nvPicPr>
          <p:cNvPr id="274" name="Shape 31" descr=""/>
          <p:cNvPicPr/>
          <p:nvPr/>
        </p:nvPicPr>
        <p:blipFill>
          <a:blip r:embed="rId2"/>
          <a:stretch/>
        </p:blipFill>
        <p:spPr>
          <a:xfrm>
            <a:off x="4834080" y="995400"/>
            <a:ext cx="3870360" cy="2903400"/>
          </a:xfrm>
          <a:prstGeom prst="rect">
            <a:avLst/>
          </a:prstGeom>
          <a:ln w="0">
            <a:noFill/>
          </a:ln>
        </p:spPr>
      </p:pic>
      <p:sp>
        <p:nvSpPr>
          <p:cNvPr id="275" name="Shape 32"/>
          <p:cNvSpPr/>
          <p:nvPr/>
        </p:nvSpPr>
        <p:spPr>
          <a:xfrm>
            <a:off x="171360" y="884160"/>
            <a:ext cx="4662720" cy="33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Today’s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Impri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No Launch :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Impri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BrainPop - Energy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Impri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Mat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Impri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Quick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Impri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Foldab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55680">
              <a:lnSpc>
                <a:spcPct val="100000"/>
              </a:lnSpc>
              <a:buClr>
                <a:srgbClr val="000000"/>
              </a:buClr>
              <a:buFont typeface="Impri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We will begin if time allow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Impri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Wrap up + roll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hape 33"/>
          <p:cNvSpPr/>
          <p:nvPr/>
        </p:nvSpPr>
        <p:spPr>
          <a:xfrm>
            <a:off x="22320" y="3639960"/>
            <a:ext cx="90993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Imprima"/>
                <a:ea typeface="Imprima"/>
              </a:rPr>
              <a:t>Notebook Setup Bel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 u="sng">
                <a:solidFill>
                  <a:srgbClr val="000000"/>
                </a:solidFill>
                <a:uFillTx/>
                <a:latin typeface="Imprima"/>
                <a:ea typeface="Imprima"/>
              </a:rPr>
              <a:t>Date                                      Topic/Activity                                   Page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Imprima"/>
                <a:ea typeface="Imprima"/>
              </a:rPr>
              <a:t>2.19.15          Energy Resources: Renewable vs. Nonrenewable            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Shape 38" descr=""/>
          <p:cNvPicPr/>
          <p:nvPr/>
        </p:nvPicPr>
        <p:blipFill>
          <a:blip r:embed="rId1"/>
          <a:stretch/>
        </p:blipFill>
        <p:spPr>
          <a:xfrm>
            <a:off x="2943360" y="109440"/>
            <a:ext cx="3781440" cy="885960"/>
          </a:xfrm>
          <a:prstGeom prst="rect">
            <a:avLst/>
          </a:prstGeom>
          <a:ln w="0">
            <a:noFill/>
          </a:ln>
        </p:spPr>
      </p:pic>
      <p:pic>
        <p:nvPicPr>
          <p:cNvPr id="278" name="Shape 39" descr=""/>
          <p:cNvPicPr/>
          <p:nvPr/>
        </p:nvPicPr>
        <p:blipFill>
          <a:blip r:embed="rId2"/>
          <a:stretch/>
        </p:blipFill>
        <p:spPr>
          <a:xfrm>
            <a:off x="247680" y="1044720"/>
            <a:ext cx="8431200" cy="38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Shape 44" descr=""/>
          <p:cNvPicPr/>
          <p:nvPr/>
        </p:nvPicPr>
        <p:blipFill>
          <a:blip r:embed="rId1"/>
          <a:stretch/>
        </p:blipFill>
        <p:spPr>
          <a:xfrm>
            <a:off x="2943360" y="109440"/>
            <a:ext cx="3781440" cy="885960"/>
          </a:xfrm>
          <a:prstGeom prst="rect">
            <a:avLst/>
          </a:prstGeom>
          <a:ln w="0">
            <a:noFill/>
          </a:ln>
        </p:spPr>
      </p:pic>
      <p:pic>
        <p:nvPicPr>
          <p:cNvPr id="280" name="Shape 45" descr=""/>
          <p:cNvPicPr/>
          <p:nvPr/>
        </p:nvPicPr>
        <p:blipFill>
          <a:blip r:embed="rId2"/>
          <a:stretch/>
        </p:blipFill>
        <p:spPr>
          <a:xfrm>
            <a:off x="0" y="995400"/>
            <a:ext cx="9144000" cy="41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Shape 50" descr=""/>
          <p:cNvPicPr/>
          <p:nvPr/>
        </p:nvPicPr>
        <p:blipFill>
          <a:blip r:embed="rId1"/>
          <a:stretch/>
        </p:blipFill>
        <p:spPr>
          <a:xfrm>
            <a:off x="2943360" y="109440"/>
            <a:ext cx="3781440" cy="885960"/>
          </a:xfrm>
          <a:prstGeom prst="rect">
            <a:avLst/>
          </a:prstGeom>
          <a:ln w="0">
            <a:noFill/>
          </a:ln>
        </p:spPr>
      </p:pic>
      <p:sp>
        <p:nvSpPr>
          <p:cNvPr id="282" name="Shape 51"/>
          <p:cNvSpPr/>
          <p:nvPr/>
        </p:nvSpPr>
        <p:spPr>
          <a:xfrm>
            <a:off x="63360" y="243000"/>
            <a:ext cx="3409920" cy="36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Folda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Impri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Use the words with </a:t>
            </a:r>
            <a:r>
              <a:rPr b="1" lang="en" sz="2000" spc="-1" strike="noStrike">
                <a:solidFill>
                  <a:srgbClr val="ff9900"/>
                </a:solidFill>
                <a:latin typeface="Imprima"/>
                <a:ea typeface="Imprima"/>
              </a:rPr>
              <a:t>ORANGE STARS</a:t>
            </a: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 on the bo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Impri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When opening each tab, write do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55680">
              <a:lnSpc>
                <a:spcPct val="100000"/>
              </a:lnSpc>
              <a:buClr>
                <a:srgbClr val="000000"/>
              </a:buClr>
              <a:buFont typeface="Impri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a descri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55680">
              <a:lnSpc>
                <a:spcPct val="100000"/>
              </a:lnSpc>
              <a:buClr>
                <a:srgbClr val="000000"/>
              </a:buClr>
              <a:buFont typeface="Impri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an example or examp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55680">
              <a:lnSpc>
                <a:spcPct val="100000"/>
              </a:lnSpc>
              <a:buClr>
                <a:srgbClr val="000000"/>
              </a:buClr>
              <a:buFont typeface="Impri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Pros (at least 2 ea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55680">
              <a:lnSpc>
                <a:spcPct val="100000"/>
              </a:lnSpc>
              <a:buClr>
                <a:srgbClr val="000000"/>
              </a:buClr>
              <a:buFont typeface="Impri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Cons (at least 2 eac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55680">
              <a:lnSpc>
                <a:spcPct val="100000"/>
              </a:lnSpc>
              <a:buClr>
                <a:srgbClr val="000000"/>
              </a:buClr>
              <a:buFont typeface="Impri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draw a small pi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Impri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 </a:t>
            </a:r>
            <a:r>
              <a:rPr b="0" lang="en" sz="2000" spc="-1" strike="noStrike">
                <a:solidFill>
                  <a:srgbClr val="000000"/>
                </a:solidFill>
                <a:latin typeface="Imprima"/>
                <a:ea typeface="Imprima"/>
              </a:rPr>
              <a:t>Use the coach book to assist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Shape 52" descr=""/>
          <p:cNvPicPr/>
          <p:nvPr/>
        </p:nvPicPr>
        <p:blipFill>
          <a:blip r:embed="rId2"/>
          <a:srcRect l="0" t="18228" r="3735" b="8982"/>
          <a:stretch/>
        </p:blipFill>
        <p:spPr>
          <a:xfrm>
            <a:off x="6724800" y="750960"/>
            <a:ext cx="2342880" cy="2361960"/>
          </a:xfrm>
          <a:prstGeom prst="rect">
            <a:avLst/>
          </a:prstGeom>
          <a:ln w="0">
            <a:noFill/>
          </a:ln>
        </p:spPr>
      </p:pic>
      <p:pic>
        <p:nvPicPr>
          <p:cNvPr id="284" name="Shape 53" descr=""/>
          <p:cNvPicPr/>
          <p:nvPr/>
        </p:nvPicPr>
        <p:blipFill>
          <a:blip r:embed="rId3"/>
          <a:stretch/>
        </p:blipFill>
        <p:spPr>
          <a:xfrm>
            <a:off x="3816360" y="995400"/>
            <a:ext cx="3208320" cy="414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CS Student</dc:creator>
  <dc:description/>
  <dc:language>en-US</dc:language>
  <cp:lastModifiedBy>LCS Student</cp:lastModifiedBy>
  <dcterms:modified xsi:type="dcterms:W3CDTF">2015-11-24T20:32:03Z</dcterms:modified>
  <cp:revision>1</cp:revision>
  <dc:subject/>
  <dc:title>Slide 1</dc:title>
</cp:coreProperties>
</file>